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24B695-78DF-4525-9621-01E247EFEA1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E52E5E-8C2E-4343-AE09-E2A2D7C27AC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393-D642-4FE0-9E1F-DE3059BB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658-D36D-40EC-8630-107D358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BAE-1538-4023-AFCA-B78B3A91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348-4224-4168-9CCF-C75ADF63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119-7BCD-4AB1-A57F-0D06C22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642-355D-43B7-93F1-1E43213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614-C62C-4F52-9CA4-98EC5398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568-1605-42C0-8DDD-E2160DA2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47B-7791-4EE5-A584-5D02B45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D65-CC8B-441A-AA71-0065DC5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621-4984-452C-A5B4-04DE086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0CB-7966-4263-BE1A-C54C022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522-1B00-49EA-A7F5-9EB2292A1E59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848-1DFB-45A7-916E-275229C97FA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599840"/>
            <a:ext cx="7508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2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DF5-F401-4F31-823F-771E9306AF3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3B6C-5EE9-431C-9A87-E657A4F8267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1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5" name="CuadroTexto 1"/>
          <p:cNvSpPr/>
          <p:nvPr/>
        </p:nvSpPr>
        <p:spPr>
          <a:xfrm>
            <a:off x="1249200" y="304920"/>
            <a:ext cx="39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Z COORDINADOR HASTA 42 PU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6640" y="1311120"/>
          <a:ext cx="7743960" cy="5430960"/>
        </p:xfrm>
        <a:graphic>
          <a:graphicData uri="http://schemas.openxmlformats.org/drawingml/2006/table">
            <a:tbl>
              <a:tblPr/>
              <a:tblGrid>
                <a:gridCol w="5950080"/>
                <a:gridCol w="789120"/>
                <a:gridCol w="1004760"/>
              </a:tblGrid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CTUACIÓN JUDICIAL ADMINISTRATIVA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PUNTOS)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PLICA ANÁLISIS DE LA DECI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Oportunidad en la gestión administrativa.</a:t>
                      </a: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examinará la oportunidad e impulso de la gestión administrativa y el cumplimiento de los términos en la programación de las actuaciones y audiencias y el uso de las tecnologías de la información y las comunicaciones en la gestión y trámite de los procesos judiciales, con el fin de facilitar y agilizar el acceso a la justicia, así como ampliar su cobertu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ción del trámite administrativo y/o judicial. Se tendrá en cuenta que las actuaciones se adelanten con base en los principios de acceso a la administración de justicia, celeridad, eficiencia, eficacia y respeto de los derechos, entre otros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iciencia, y respeto por el derecho entre los ot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 .(20 PUNTO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19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Hasta 6 puntos. Este aspecto se calificará considerando la relevancia que cada uno de estos aspectos corresponda, según la naturaleza del proceso y la situación planteada en el mism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UNTAJE ASIG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1599840"/>
            <a:ext cx="75679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los funcionarios con conocimiento exclusivo en extinción de dominio y lavado de activos y exclusivo de procesos de Foncolpuertos y Cajanal, el procedimiento se adelantara de acuerdo a lo establecido para los Jueces Penales y Magistrados de las Salas Penales de los Tribunales Superiores, en cuanto a sus competencias constitucionales respecto de acciones de tutela y habeas corp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subfactores y puntajes de evaluación corresponderán a los señalados en los artículos 30 y s.s del Acuerdo.(Formulario General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674-E75C-409E-B7B0-9C963949604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2" name="CuadroTexto 1"/>
          <p:cNvSpPr/>
          <p:nvPr/>
        </p:nvSpPr>
        <p:spPr>
          <a:xfrm>
            <a:off x="1249200" y="268200"/>
            <a:ext cx="38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ESPECIALIZADOS EN EXTINCIÓN DE DOMINIO Y LAVADO DE ACTIVOS Y FONCOLPUERTOS Y CAJ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280" y="179856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superior funcional solicitará una relación de procesos a cargo del funcionario evaluado, remitirá copias de las mismas y al azar se seleccionarán un mínimo de 5 providencias o actuaciones, en caso de no contar con el mínimo requerido se realizara la calificación con las que hubie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Factor Calidad, se obtendrá del promedio del total de formatos de las calificaciones obtenidas en los asuntos de conocimiento exclusivo y en las competencias generales en materia constitucional en acciones de tutela, incidentes de desacato de tutela y habeas corpu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8CB-DED6-43C5-974D-B106B549A74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8" name="CuadroTexto 1"/>
          <p:cNvSpPr/>
          <p:nvPr/>
        </p:nvSpPr>
        <p:spPr>
          <a:xfrm>
            <a:off x="1249200" y="268200"/>
            <a:ext cx="38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ESPECIALIZADOS EN EXTINCIÓN DE DOMINIO Y LAVADO DE ACTIVOS Y FONCOLPUERTOS Y CAJ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30360" y="1557360"/>
          <a:ext cx="3743280" cy="3816360"/>
        </p:xfrm>
        <a:graphic>
          <a:graphicData uri="http://schemas.openxmlformats.org/drawingml/2006/table">
            <a:tbl>
              <a:tblPr/>
              <a:tblGrid>
                <a:gridCol w="2879640"/>
                <a:gridCol w="863640"/>
              </a:tblGrid>
              <a:tr h="825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ctuación y control de término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puntos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53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Control de la ejecución de las penas y de los subrogados penales, si no hubo actividad probatoria, pertinencia de las pruebas decretad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Ejecución de los actos relacionados con el sistema penitenciario y carcelario y manejo de las visitas y diligenci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3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48C1-739F-4A4F-B48E-FEEF523ECF6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4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Z DE EJECUCIÓN DE PENAS Y MEDIDAS DE SEGURIDAD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03880" y="1558800"/>
          <a:ext cx="4003560" cy="4651560"/>
        </p:xfrm>
        <a:graphic>
          <a:graphicData uri="http://schemas.openxmlformats.org/drawingml/2006/table">
            <a:tbl>
              <a:tblPr/>
              <a:tblGrid>
                <a:gridCol w="3139920"/>
                <a:gridCol w="8636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Análisis de la decisión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70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Este aspecto se calificará considerando la relevancia que cada uno de estos aspectos corresponda, según la naturaleza del proceso y la situación planteada en el mism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5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214720" y="5732640"/>
          <a:ext cx="1771560" cy="504720"/>
        </p:xfrm>
        <a:graphic>
          <a:graphicData uri="http://schemas.openxmlformats.org/drawingml/2006/table">
            <a:tbl>
              <a:tblPr/>
              <a:tblGrid>
                <a:gridCol w="177156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cxnSp>
        <p:nvCxnSpPr>
          <p:cNvPr id="137" name="Conector angular 4"/>
          <p:cNvCxnSpPr/>
          <p:nvPr/>
        </p:nvCxnSpPr>
        <p:spPr>
          <a:xfrm flipV="1" rot="10800000">
            <a:off x="3099600" y="5372640"/>
            <a:ext cx="1058040" cy="35964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Conector angular 9"/>
          <p:cNvCxnSpPr/>
          <p:nvPr/>
        </p:nvCxnSpPr>
        <p:spPr>
          <a:xfrm rot="10800000">
            <a:off x="3956760" y="5949360"/>
            <a:ext cx="731160" cy="262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50800" y="1424160"/>
          <a:ext cx="3630600" cy="4906800"/>
        </p:xfrm>
        <a:graphic>
          <a:graphicData uri="http://schemas.openxmlformats.org/drawingml/2006/table">
            <a:tbl>
              <a:tblPr/>
              <a:tblGrid>
                <a:gridCol w="2884680"/>
                <a:gridCol w="745920"/>
              </a:tblGrid>
              <a:tr h="525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uración de la Actuac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38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</a:t>
                      </a: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y prevención de posibles vicios de nulidad en al ejecución del fallo, adopción de medidas de saneamiento y renovación de actuaciones declaradas nulas con ocasión a la providencia que dio lugar a la ejecución o por cusas anteriores a la misma. Si para ello hubo actuación probatoria, también se examinará la pertinencia de las pruebas decretadas y conducción probatoria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Control y/o rechazo de prácticas dilatorias y garantía del cumplimiento de los principios que informan el respectivo procedimient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Ejecución efectiva del fall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4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C32-20B3-44A4-9158-1B6547621B1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44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DE EJECUCIÓN DE SENTENCIAS EN CIVIL Y FAMILIA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30720" y="1413000"/>
          <a:ext cx="3886200" cy="4811760"/>
        </p:xfrm>
        <a:graphic>
          <a:graphicData uri="http://schemas.openxmlformats.org/drawingml/2006/table">
            <a:tbl>
              <a:tblPr/>
              <a:tblGrid>
                <a:gridCol w="3093840"/>
                <a:gridCol w="792360"/>
              </a:tblGrid>
              <a:tr h="406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0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Este aspecto se calificará considerando la relevancia que cada uno de estos aspectos corresponda, según la naturaleza del proceso y la situación planteada en el mism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583080" y="6237360"/>
          <a:ext cx="1663560" cy="484200"/>
        </p:xfrm>
        <a:graphic>
          <a:graphicData uri="http://schemas.openxmlformats.org/drawingml/2006/table">
            <a:tbl>
              <a:tblPr/>
              <a:tblGrid>
                <a:gridCol w="1663560"/>
              </a:tblGrid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PU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cxnSp>
        <p:nvCxnSpPr>
          <p:cNvPr id="147" name="Conector angular 2"/>
          <p:cNvCxnSpPr/>
          <p:nvPr/>
        </p:nvCxnSpPr>
        <p:spPr>
          <a:xfrm>
            <a:off x="2287080" y="6356160"/>
            <a:ext cx="1296360" cy="124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Conector angular 4"/>
          <p:cNvCxnSpPr/>
          <p:nvPr/>
        </p:nvCxnSpPr>
        <p:spPr>
          <a:xfrm flipV="1" rot="10800000">
            <a:off x="5245920" y="6237000"/>
            <a:ext cx="1024560" cy="24336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8B6-180D-4F3C-81AA-6B02B74797B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3" name="CuadroTexto 1"/>
          <p:cNvSpPr/>
          <p:nvPr/>
        </p:nvSpPr>
        <p:spPr>
          <a:xfrm>
            <a:off x="1249200" y="247680"/>
            <a:ext cx="39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Y MAGISTRADOS ESPECIALIZADOS EN RESTITUCIÓN DE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360" y="1658880"/>
          <a:ext cx="7488000" cy="146376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Jueces y Magistrados especializados en restitución de tierras, la calificación se dará con base al procedimiento establecido para la calificación de jueces civiles y magistrados de la sala civil de los tribunales superiores en cuanto al área civil y constitucionales, respecto a acciones de tutela y habeas corpu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30360" y="3138480"/>
          <a:ext cx="7488000" cy="310824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3109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ara los funcionarios que tengan a cargo procesos de las comunidades negras, afrocolombianas, palenqueras, raizales, procesos de restitución de derechos de comunidades indígenas, procesos de restitución y formalización de territorios despojados o abandonados, procesos de restitución de derechos territoriales del pueblo room o gitano y los demás que se asignen con base en la Ley 1448 de 2011, el superior funcional solicitara la relación de procesos a cargo del funcionario evaluado con el fin de seleccionar al azar un mínimo de 5 providencias o actuaciones, en caso de no contar con el mínimo requerido la calificación se realizara con los que hubiere. Los subfactores y puntajes de evaluación corresponderán a los señalados en los artículos 30 y s.s. de este Acuerdo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49360" y="1599840"/>
            <a:ext cx="76276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fectuará por el superior funcional, sobre sentencias y/o autos que pongan fin al proceso y 2 autos interlocutorios que no le pongan fin al proceso, simultáneamente con la decisión del recurso o grado jurisdiccional de consul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superior funcional sea colegiado, se efectuará por la sala plena de la respectiva corporación, la calificación se realizará por iniciativa de la sala, sección especializada o subsección, si la hubiere, para lo que el ponente simultáneamente con la elaboración del proyecto de decisión diligenciara el formul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calificaciones aprobadas por las salas, secciones o subsecciones serán sometidas a la aprobación de la sala plena al menos cada 2 me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C8C8-438D-4D06-92A8-87CCBBCCB07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3 Imagen" descr="logo csj 2009.jpg"/>
          <p:cNvPicPr/>
          <p:nvPr/>
        </p:nvPicPr>
        <p:blipFill>
          <a:blip r:embed="rId1"/>
          <a:stretch/>
        </p:blipFill>
        <p:spPr>
          <a:xfrm>
            <a:off x="841320" y="4176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59" name="2 Subtítulo"/>
          <p:cNvSpPr/>
          <p:nvPr/>
        </p:nvSpPr>
        <p:spPr>
          <a:xfrm>
            <a:off x="5383080" y="72720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 Imagen" descr="palo ejrlb.png"/>
          <p:cNvPicPr/>
          <p:nvPr/>
        </p:nvPicPr>
        <p:blipFill>
          <a:blip r:embed="rId2"/>
          <a:stretch/>
        </p:blipFill>
        <p:spPr>
          <a:xfrm>
            <a:off x="3873600" y="1157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161" name="CuadroTexto 1"/>
          <p:cNvSpPr/>
          <p:nvPr/>
        </p:nvSpPr>
        <p:spPr>
          <a:xfrm>
            <a:off x="1539720" y="27936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ADMINIST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1599840"/>
            <a:ext cx="77011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Comprenderá un mínimo de 12 providencias durante todo el período, así: 2 autos interlocutorios que no le pongan fin al proceso y 4 providencias entre sentencias y autos interlocutorios que le ponen fin al proceso, por cada semestre; equivalentes a cuatro de la especialidad y una de tutel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Para los magistrados el mínimo de providencias a evaluar será de 24, teniendo en cuenta el mínimo de providencias semestrales y el procedimiento señalado anteriormen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En caso de no contar con sistema de Gestión Siglo XXI, el funcionario remitirá un listado de procesos terminados donde al azar se seleccionará los procesos objeto de calificació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Si no se completa el mínimo requerido se calificara con los que hubi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AB04-848F-4495-AA3B-5B9B7F3449F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3 Imagen" descr="logo csj 2009.jpg"/>
          <p:cNvPicPr/>
          <p:nvPr/>
        </p:nvPicPr>
        <p:blipFill>
          <a:blip r:embed="rId1"/>
          <a:stretch/>
        </p:blipFill>
        <p:spPr>
          <a:xfrm>
            <a:off x="841320" y="4176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65" name="2 Subtítulo"/>
          <p:cNvSpPr/>
          <p:nvPr/>
        </p:nvSpPr>
        <p:spPr>
          <a:xfrm>
            <a:off x="5383080" y="72720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6 Imagen" descr="palo ejrlb.png"/>
          <p:cNvPicPr/>
          <p:nvPr/>
        </p:nvPicPr>
        <p:blipFill>
          <a:blip r:embed="rId2"/>
          <a:stretch/>
        </p:blipFill>
        <p:spPr>
          <a:xfrm>
            <a:off x="3873600" y="1157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1"/>
          <p:cNvSpPr/>
          <p:nvPr/>
        </p:nvSpPr>
        <p:spPr>
          <a:xfrm>
            <a:off x="1539720" y="27936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ADMINIST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1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DIREC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2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E04-08E4-49F6-8AA2-ADD151D1F62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6640" y="1557360"/>
          <a:ext cx="7696440" cy="4759200"/>
        </p:xfrm>
        <a:graphic>
          <a:graphicData uri="http://schemas.openxmlformats.org/drawingml/2006/table">
            <a:tbl>
              <a:tblPr/>
              <a:tblGrid>
                <a:gridCol w="3816360"/>
                <a:gridCol w="790560"/>
                <a:gridCol w="792360"/>
                <a:gridCol w="720720"/>
                <a:gridCol w="863640"/>
                <a:gridCol w="712800"/>
              </a:tblGrid>
              <a:tr h="880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medidas de saneamiento, conducción de la conciliación, planes en eventos pertinentes, fijación del litigio, control y/o rechazo de practicas dilatorias, garantía del cumplimiento de los princi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pruebas decretadas, inadmisibilidad, rechazo, control de pruebas, prohibidas, ineficaces, impertinentes o superflu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intervenciones, suspensión y aplaza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7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7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ANÁLISI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0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6D41-0C01-4304-A4DC-4A5A80F7445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66640" y="1557360"/>
          <a:ext cx="7624800" cy="4906800"/>
        </p:xfrm>
        <a:graphic>
          <a:graphicData uri="http://schemas.openxmlformats.org/drawingml/2006/table">
            <a:tbl>
              <a:tblPr/>
              <a:tblGrid>
                <a:gridCol w="3780000"/>
                <a:gridCol w="785880"/>
                <a:gridCol w="784080"/>
                <a:gridCol w="712800"/>
                <a:gridCol w="770040"/>
                <a:gridCol w="7920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50440" y="20019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nsiste en el análisis técnico y jurídico de la decisión y el respeto y efectividad del derecho al debido proce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efectúa por el superior funcional del servidor judicial, sobre sentencias y/o autos que pongan fin al proceso y 2 autos interlocutorios que no le pongan fin al proceso, simultáneamente con la decisión del recurso o grado jurisdiccional de consul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i el superior funcional es colegiado, se efectuara por la Sala Plena de la respectiva corporación. (Art.28 A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B6A-85C7-4897-9E7E-222D0BCD6A1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5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33280" y="244080"/>
            <a:ext cx="410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1800" spc="-1" strike="noStrike">
                <a:solidFill>
                  <a:srgbClr val="ffc000"/>
                </a:solidFill>
                <a:latin typeface="Calibri"/>
                <a:ea typeface="MS PGothic"/>
              </a:rPr>
              <a:t>–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SISTEMAS O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CD78-2889-4F8D-9C59-EB8069F855F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ángulo 4"/>
          <p:cNvSpPr/>
          <p:nvPr/>
        </p:nvSpPr>
        <p:spPr>
          <a:xfrm>
            <a:off x="774720" y="2492280"/>
            <a:ext cx="7199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alibri"/>
                <a:ea typeface="MS PGothic"/>
              </a:rPr>
              <a:t>FUNCIONARIOS EN CARGOS DE DESCON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3A25-CAF1-4371-AB9B-E8925F55F72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87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9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DEL RÉGIMEN DE CARRERA EN CARGOS DE DESCONGESTIÓN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30360" y="1557360"/>
          <a:ext cx="7488000" cy="4602240"/>
        </p:xfrm>
        <a:graphic>
          <a:graphicData uri="http://schemas.openxmlformats.org/drawingml/2006/table">
            <a:tbl>
              <a:tblPr/>
              <a:tblGrid>
                <a:gridCol w="4608360"/>
                <a:gridCol w="1224000"/>
                <a:gridCol w="1008000"/>
                <a:gridCol w="647640"/>
              </a:tblGrid>
              <a:tr h="5493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LOS FUNCIONARIOS QUE SE DESEMPEÑAN TRANSITORIAMENTE EN PROGRAMAS DE DESCONGESTIÓ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ción del proceso. (Hasta 22 puntos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SUST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 AUDIENCIAS o DILIG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F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Dirección temprana, adopción de medidas de saneamiento, manejo de la conciliación, elaboración de planes en eventos pertinentes y control y/o rechazo de prácticas dilatori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Pertinencia de las pruebas decretadas, control de pruebas prohibidas ineficaces, impertinentes o superfluas y conducción probatori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) Manejo de audiencias y diligencias y control de su duración, administración del tiempo y de las intervenciones, suspensión y aplazami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646360" y="1738080"/>
            <a:ext cx="2232000" cy="2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D0DC-94C5-484F-9C99-D6E079D64FB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94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96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DEL RÉGIMEN DE CARRERA EN CARGOS DE DESCONGESTIÓN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9880" y="1557360"/>
          <a:ext cx="7561440" cy="4476600"/>
        </p:xfrm>
        <a:graphic>
          <a:graphicData uri="http://schemas.openxmlformats.org/drawingml/2006/table">
            <a:tbl>
              <a:tblPr/>
              <a:tblGrid>
                <a:gridCol w="4595760"/>
                <a:gridCol w="1238400"/>
                <a:gridCol w="1079280"/>
                <a:gridCol w="6480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Análisis de la Decisión. (hasta 20 punto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SUST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 AUDIENCIAS o DILIG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F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Identificación del problema jurídic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4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Argumentación normativa y jurisprudencial, doctrina o bloque de constitucionalidad, aplicación de normas estándares internacionales de DH vigentes, principio de igualdad y no discriminación por género y enfoque de Derechos Human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) Argumentación y valoración probatori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) 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 gridSpan="4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 sustanciación y fallo, aplica el procedimiento General - </a:t>
                      </a:r>
                      <a:r>
                        <a:rPr b="0" lang="es-CO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Diapositiv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85B-C4E5-4ED6-869D-1104C1B3D80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00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2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NORMAS TRANSITORIAS DESPACHOS QUE NO HAN INGRESADO AL SISTEMA ORAL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30360" y="1589040"/>
          <a:ext cx="7494480" cy="2401920"/>
        </p:xfrm>
        <a:graphic>
          <a:graphicData uri="http://schemas.openxmlformats.org/drawingml/2006/table">
            <a:tbl>
              <a:tblPr/>
              <a:tblGrid>
                <a:gridCol w="7494480"/>
              </a:tblGrid>
              <a:tr h="30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IRECCION DEL PROCESO HASTA 22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irección temprana, adopción de medidas de saneamiento, elaboración de planes del caso en los eventos en que resulte pertinente y control y/o rechazo de prácticas dilatorias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ertinencia de las pruebas decretadas, control de pruebas prohibidas, ineficaces, impertinentes o superfluas y conducción probatoria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Manejo de audiencias y diligencias y control de su duración administración del tiempo y de las intervenciones, suspensión y aplazamiento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Seguimiento de las medidas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19200" y="4005360"/>
          <a:ext cx="7488000" cy="236052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NÁLISIS DE LA DECISIÓN HASTA 20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dentificación del problema jurídico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rgumentación normativa y jurisprudencial, doctrina o bloque de constitucionalidad, aplicación de normas y estándares internacionales de DH vigentes para Colombia, cuando sea el cado aplicación del principio de igualdad y no discriminación por razón de genero y enfoque diferencial de DH.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rgumentación y valoración probatoria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structura de la decisión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9280" y="243000"/>
            <a:ext cx="410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1800" spc="-1" strike="noStrike">
                <a:solidFill>
                  <a:srgbClr val="ffc000"/>
                </a:solidFill>
                <a:latin typeface="Calibri"/>
                <a:ea typeface="MS PGothic"/>
              </a:rPr>
              <a:t>–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SISTEMA ORAL PROCESOS A EVAL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0440" y="1628280"/>
            <a:ext cx="77835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A11-0DEA-4F79-BDBE-EA7B2883820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0360" y="1773360"/>
          <a:ext cx="3743280" cy="5032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PROVID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92080" y="2852640"/>
          <a:ext cx="2833920" cy="2855880"/>
        </p:xfrm>
        <a:graphic>
          <a:graphicData uri="http://schemas.openxmlformats.org/drawingml/2006/table">
            <a:tbl>
              <a:tblPr/>
              <a:tblGrid>
                <a:gridCol w="2833920"/>
              </a:tblGrid>
              <a:tr h="69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ER SE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9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utos interlocutorios que no pongan fin al 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videncias de la especialidad ent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utori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tut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59480" y="2852640"/>
          <a:ext cx="2935080" cy="2903760"/>
        </p:xfrm>
        <a:graphic>
          <a:graphicData uri="http://schemas.openxmlformats.org/drawingml/2006/table">
            <a:tbl>
              <a:tblPr/>
              <a:tblGrid>
                <a:gridCol w="29350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O SE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utos interlocutorios que no pongan fin al 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videncias de la especialidad ent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utori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tut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1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DIREC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2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202B-D82E-4138-AFCF-14A4E658403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66640" y="1557360"/>
          <a:ext cx="7696440" cy="4759200"/>
        </p:xfrm>
        <a:graphic>
          <a:graphicData uri="http://schemas.openxmlformats.org/drawingml/2006/table">
            <a:tbl>
              <a:tblPr/>
              <a:tblGrid>
                <a:gridCol w="3816360"/>
                <a:gridCol w="790560"/>
                <a:gridCol w="792360"/>
                <a:gridCol w="720720"/>
                <a:gridCol w="863640"/>
                <a:gridCol w="712800"/>
              </a:tblGrid>
              <a:tr h="880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medidas de saneamiento, conducción de la conciliación, planes en eventos pertinentes, fijación del litigio, control y/o rechazo de practicas dilatorias, garantía del cumplimiento de los princi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pruebas decretadas, inadmisibilidad, rechazo, control de pruebas prohibidas, ineficaces, impertinentes o superflu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intervenciones, suspensión y aplaza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7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7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ANÁLISI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0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33E-CE83-4F1A-99F7-77C6F1040DC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66640" y="1557360"/>
          <a:ext cx="7624800" cy="4954680"/>
        </p:xfrm>
        <a:graphic>
          <a:graphicData uri="http://schemas.openxmlformats.org/drawingml/2006/table">
            <a:tbl>
              <a:tblPr/>
              <a:tblGrid>
                <a:gridCol w="3780000"/>
                <a:gridCol w="785880"/>
                <a:gridCol w="784080"/>
                <a:gridCol w="712800"/>
                <a:gridCol w="770040"/>
                <a:gridCol w="792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0B3E-174E-4BC4-9CB1-E73C8392285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84" name="CuadroTexto 1"/>
          <p:cNvSpPr/>
          <p:nvPr/>
        </p:nvSpPr>
        <p:spPr>
          <a:xfrm>
            <a:off x="1249200" y="304920"/>
            <a:ext cx="39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99840"/>
            <a:ext cx="7508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alibri"/>
                <a:ea typeface="MS PGothic"/>
              </a:rPr>
              <a:t>REGÍMENES ESPE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630360" y="1700280"/>
          <a:ext cx="7488000" cy="1868400"/>
        </p:xfrm>
        <a:graphic>
          <a:graphicData uri="http://schemas.openxmlformats.org/drawingml/2006/table">
            <a:tbl>
              <a:tblPr/>
              <a:tblGrid>
                <a:gridCol w="6408720"/>
                <a:gridCol w="1079280"/>
              </a:tblGrid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UDIENCIA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ASTA 22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analizan las siguientes variables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 Manejo de audienci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Control y/o rechazo de prácticas dilatori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Control de su duración y suspen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E66B-876B-4981-8763-A4912F20E60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1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CON FUNCIÓN DE CONTROL DE GARANTÍAS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0360" y="3573360"/>
          <a:ext cx="7488000" cy="2982960"/>
        </p:xfrm>
        <a:graphic>
          <a:graphicData uri="http://schemas.openxmlformats.org/drawingml/2006/table">
            <a:tbl>
              <a:tblPr/>
              <a:tblGrid>
                <a:gridCol w="6408720"/>
                <a:gridCol w="1079280"/>
              </a:tblGrid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ASTA 20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59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estándares internacionales de DH vigentes para Colombia, cuando sea el caso y aplicación del principio de igualdad y no discriminación por razón del género y del enfoque diferencial de Derechos Humano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 Argumentación y valoración probatori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UNTAJE ASIGN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1581120"/>
          <a:ext cx="3527280" cy="3989520"/>
        </p:xfrm>
        <a:graphic>
          <a:graphicData uri="http://schemas.openxmlformats.org/drawingml/2006/table">
            <a:tbl>
              <a:tblPr/>
              <a:tblGrid>
                <a:gridCol w="2952720"/>
                <a:gridCol w="574560"/>
              </a:tblGrid>
              <a:tr h="37620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l juicio (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PUNTOS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4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adopción de medidas de saneamiento, elaboración de planes del caso, conducción del juicio oral y garantía de principios, control de preacuerdos, aseguramiento de la comprensión del acusado y control y/o rechazo de practicas dilatori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las pruebas decretadas, inadmisibilidad, rechazo y exclusión de pruebas y conducción probator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las intervenciones, suspensión y aplaza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C71-A0AD-49E5-8F66-327DEC04A23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9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8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CON FUNCIÓN DE CONOCIMIENTO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02000" y="1589040"/>
          <a:ext cx="3673440" cy="4130640"/>
        </p:xfrm>
        <a:graphic>
          <a:graphicData uri="http://schemas.openxmlformats.org/drawingml/2006/table">
            <a:tbl>
              <a:tblPr/>
              <a:tblGrid>
                <a:gridCol w="3119400"/>
                <a:gridCol w="554040"/>
              </a:tblGrid>
              <a:tr h="32076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03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, aplicación del principio de igualdad y nos discriminación por razón de género y enfoque diferencial de derechos humanos. Este aspecto se calificará considerando la relevancia que cada uno de aspectos corresponda, según la naturaleza del proceso y la situación planteada en el m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71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0" name="Rectángulo 1"/>
          <p:cNvSpPr/>
          <p:nvPr/>
        </p:nvSpPr>
        <p:spPr>
          <a:xfrm>
            <a:off x="3583080" y="5805360"/>
            <a:ext cx="1509480" cy="5511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0-42 p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ector angular 3"/>
          <p:cNvCxnSpPr/>
          <p:nvPr/>
        </p:nvCxnSpPr>
        <p:spPr>
          <a:xfrm flipV="1" rot="10800000">
            <a:off x="5091840" y="5727240"/>
            <a:ext cx="939240" cy="277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Conector angular 5"/>
          <p:cNvCxnSpPr/>
          <p:nvPr/>
        </p:nvCxnSpPr>
        <p:spPr>
          <a:xfrm>
            <a:off x="2495160" y="5570280"/>
            <a:ext cx="1080360" cy="36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746-9A02-4276-8BB4-3C7ABE15210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PROMISCUOS MUNICIPALES Y CON COMPETENCIA MIX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30360" y="1641600"/>
            <a:ext cx="74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9720" y="1641600"/>
          <a:ext cx="7345440" cy="10792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07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ces Promiscuos Municipales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Se pondera los indicadores fijados para cada uno de los procedimientos de su compet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44400" y="2781360"/>
          <a:ext cx="7344000" cy="34783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2014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rios con competencia mixta:  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nes tramiten procesos de Ley 600/00, con funciones de control de garantías, de conocimiento o como coordinadores, se ponderarán los indicadores que para cada una de dichas actividades resulten al aplicar los procedimientos aquí establecidos. De igual forma a los que se desempeñen con funciones de control de garantías y conocimi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el ejercicio de las competencia de Ley 906/04 en control de garantías y/o conocimiento, así como en Ley 600/00, que se hayan asumido en fecha diferente durante el período, la calificación se ponderará de conformidad con los días hábiles laborados en estas competencias a efectos de obtener la calificación to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Jhon</cp:lastModifiedBy>
  <dcterms:modified xsi:type="dcterms:W3CDTF">2015-07-29T04:01:09Z</dcterms:modified>
  <cp:revision>482</cp:revision>
  <dc:subject/>
  <dc:title>Diapositiva 1</dc:title>
</cp:coreProperties>
</file>