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8748713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6A21DD-A63E-424E-8F2D-40D61DECE39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32A9A9-BF45-4D89-8B17-A32D1264817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E9CCD8-8E16-4C46-BB19-0F56170B957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827E05-64BC-4667-B50B-B35AC793B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F47F35-94C2-4C87-B992-1D7935330F6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219475-C7F8-4C4D-AC28-C89AF5F7D53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87BEA0-9359-42D3-A8CE-B95AB49F34F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C2B-049C-4F5A-A1BA-506B20C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014-F222-4790-B85D-6FF202AD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809-A325-4092-BCD4-15A7862F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996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180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996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180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334-B383-41DA-B435-EC02DFF9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4F4-AAF5-4B7E-B982-7FF0C6B9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338-07F5-44E2-8542-767CC63F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13F-325B-4450-8836-4B705DAA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65D-04A5-4925-94EE-EE6929D5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74320"/>
            <a:ext cx="78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048-248C-4B39-A981-3DC4E74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236-B274-49AE-A0EA-80CE4D3D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539-A5E3-45EB-9F91-95E135B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B92-A983-4A63-B410-EB3FE07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0592-8245-4A73-844E-0F5EC494088D}" type="datetime">
              <a:rPr b="0" lang="es-CO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356520"/>
            <a:ext cx="276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0450-495A-4906-8FB9-588FD6D7D73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ramajudicial.gov.co/" TargetMode="External"/><Relationship Id="rId5" Type="http://schemas.openxmlformats.org/officeDocument/2006/relationships/hyperlink" Target="mailto:carjud@cendoj.ramajudicial.gov.co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7720" y="1714320"/>
            <a:ext cx="7793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50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Marcador de contenido 2"/>
          <p:cNvSpPr/>
          <p:nvPr/>
        </p:nvSpPr>
        <p:spPr>
          <a:xfrm>
            <a:off x="609480" y="1600200"/>
            <a:ext cx="754380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Calibri"/>
                <a:ea typeface="MS PGothic"/>
              </a:rPr>
              <a:t>SISTEMA DE EVALUACIÓN DE SERVICIOS DE SERVIDORES JUDI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BED-D18D-4DC3-82F1-C57DEF7C5B78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7720" y="1714680"/>
            <a:ext cx="779328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123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Marcador de contenido 4" descr=""/>
          <p:cNvPicPr/>
          <p:nvPr/>
        </p:nvPicPr>
        <p:blipFill>
          <a:blip r:embed="rId4"/>
          <a:stretch/>
        </p:blipFill>
        <p:spPr>
          <a:xfrm>
            <a:off x="469800" y="1487520"/>
            <a:ext cx="7863120" cy="4900680"/>
          </a:xfrm>
          <a:prstGeom prst="rect">
            <a:avLst/>
          </a:prstGeom>
          <a:ln w="0">
            <a:noFill/>
          </a:ln>
        </p:spPr>
      </p:pic>
      <p:sp>
        <p:nvSpPr>
          <p:cNvPr id="128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F2CA-9E91-4CCB-9C42-0E8B83602B53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Marcador de número de diapositiva 6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0F61-8ED7-467D-8118-1940CF8A2ECB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3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33" name="CuadroTexto 1"/>
          <p:cNvSpPr/>
          <p:nvPr/>
        </p:nvSpPr>
        <p:spPr>
          <a:xfrm>
            <a:off x="990720" y="3459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Arial"/>
                <a:ea typeface="MS PGothic"/>
              </a:rPr>
              <a:t>SUJETOS DE EVALUACIÓN Y PERIOD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upo 11" descr=""/>
          <p:cNvPicPr/>
          <p:nvPr/>
        </p:nvPicPr>
        <p:blipFill>
          <a:blip r:embed="rId3"/>
          <a:stretch/>
        </p:blipFill>
        <p:spPr>
          <a:xfrm>
            <a:off x="701640" y="1646280"/>
            <a:ext cx="355284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Grupo 14" descr=""/>
          <p:cNvPicPr/>
          <p:nvPr/>
        </p:nvPicPr>
        <p:blipFill>
          <a:blip r:embed="rId4"/>
          <a:stretch/>
        </p:blipFill>
        <p:spPr>
          <a:xfrm>
            <a:off x="4535640" y="1523880"/>
            <a:ext cx="3597120" cy="8114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upo 17"/>
          <p:cNvGrpSpPr/>
          <p:nvPr/>
        </p:nvGrpSpPr>
        <p:grpSpPr>
          <a:xfrm>
            <a:off x="1622520" y="2544840"/>
            <a:ext cx="1709640" cy="1069920"/>
            <a:chOff x="1622520" y="2544840"/>
            <a:chExt cx="1709640" cy="1069920"/>
          </a:xfrm>
        </p:grpSpPr>
        <p:sp>
          <p:nvSpPr>
            <p:cNvPr id="137" name="Rectángulo redondeado 18"/>
            <p:cNvSpPr/>
            <p:nvPr/>
          </p:nvSpPr>
          <p:spPr>
            <a:xfrm>
              <a:off x="1622520" y="2544840"/>
              <a:ext cx="1709640" cy="10699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ángulo 19"/>
            <p:cNvSpPr/>
            <p:nvPr/>
          </p:nvSpPr>
          <p:spPr>
            <a:xfrm>
              <a:off x="1654200" y="2576520"/>
              <a:ext cx="1646280" cy="10065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ADA 2 AÑ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upo 20"/>
          <p:cNvGrpSpPr/>
          <p:nvPr/>
        </p:nvGrpSpPr>
        <p:grpSpPr>
          <a:xfrm>
            <a:off x="1622520" y="3892680"/>
            <a:ext cx="1709640" cy="1068120"/>
            <a:chOff x="1622520" y="3892680"/>
            <a:chExt cx="1709640" cy="1068120"/>
          </a:xfrm>
        </p:grpSpPr>
        <p:sp>
          <p:nvSpPr>
            <p:cNvPr id="140" name="Rectángulo redondeado 21"/>
            <p:cNvSpPr/>
            <p:nvPr/>
          </p:nvSpPr>
          <p:spPr>
            <a:xfrm>
              <a:off x="1622520" y="3892680"/>
              <a:ext cx="1709640" cy="10681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ángulo 22"/>
            <p:cNvSpPr/>
            <p:nvPr/>
          </p:nvSpPr>
          <p:spPr>
            <a:xfrm>
              <a:off x="1641240" y="3892680"/>
              <a:ext cx="1647720" cy="10065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1 ENERO DEL PRIMER AÑO AL 31 DE DICIEMBRE DEL SEGUNDO 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Conector recto de flecha 24"/>
          <p:cNvCxnSpPr>
            <a:endCxn id="137" idx="0"/>
          </p:cNvCxnSpPr>
          <p:nvPr/>
        </p:nvCxnSpPr>
        <p:spPr>
          <a:xfrm flipH="1">
            <a:off x="2475720" y="2174760"/>
            <a:ext cx="2520" cy="37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Conector recto de flecha 30"/>
          <p:cNvCxnSpPr>
            <a:stCxn id="137" idx="2"/>
            <a:endCxn id="140" idx="0"/>
          </p:cNvCxnSpPr>
          <p:nvPr/>
        </p:nvCxnSpPr>
        <p:spPr>
          <a:xfrm flipH="1">
            <a:off x="2475720" y="3614760"/>
            <a:ext cx="108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grpSp>
        <p:nvGrpSpPr>
          <p:cNvPr id="144" name="Grupo 32"/>
          <p:cNvGrpSpPr/>
          <p:nvPr/>
        </p:nvGrpSpPr>
        <p:grpSpPr>
          <a:xfrm>
            <a:off x="5478480" y="2552760"/>
            <a:ext cx="1709640" cy="1069920"/>
            <a:chOff x="5478480" y="2552760"/>
            <a:chExt cx="1709640" cy="1069920"/>
          </a:xfrm>
        </p:grpSpPr>
        <p:sp>
          <p:nvSpPr>
            <p:cNvPr id="145" name="Rectángulo redondeado 33"/>
            <p:cNvSpPr/>
            <p:nvPr/>
          </p:nvSpPr>
          <p:spPr>
            <a:xfrm>
              <a:off x="5478480" y="2552760"/>
              <a:ext cx="1709640" cy="10699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ángulo 34"/>
            <p:cNvSpPr/>
            <p:nvPr/>
          </p:nvSpPr>
          <p:spPr>
            <a:xfrm>
              <a:off x="5510160" y="2584440"/>
              <a:ext cx="1646280" cy="10065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ADA 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upo 35"/>
          <p:cNvGrpSpPr/>
          <p:nvPr/>
        </p:nvGrpSpPr>
        <p:grpSpPr>
          <a:xfrm>
            <a:off x="5478480" y="3892680"/>
            <a:ext cx="1709640" cy="1068120"/>
            <a:chOff x="5478480" y="3892680"/>
            <a:chExt cx="1709640" cy="1068120"/>
          </a:xfrm>
        </p:grpSpPr>
        <p:sp>
          <p:nvSpPr>
            <p:cNvPr id="148" name="Rectángulo redondeado 36"/>
            <p:cNvSpPr/>
            <p:nvPr/>
          </p:nvSpPr>
          <p:spPr>
            <a:xfrm>
              <a:off x="5478480" y="3892680"/>
              <a:ext cx="1709640" cy="10681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ángulo 37"/>
            <p:cNvSpPr/>
            <p:nvPr/>
          </p:nvSpPr>
          <p:spPr>
            <a:xfrm>
              <a:off x="5510160" y="3924360"/>
              <a:ext cx="1646280" cy="10047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1 DE ENERO AL 31 DE DICIEMB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0" name="Conector recto de flecha 39"/>
          <p:cNvCxnSpPr>
            <a:endCxn id="145" idx="0"/>
          </p:cNvCxnSpPr>
          <p:nvPr/>
        </p:nvCxnSpPr>
        <p:spPr>
          <a:xfrm flipH="1">
            <a:off x="6333480" y="2158920"/>
            <a:ext cx="1080" cy="39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Conector recto de flecha 41"/>
          <p:cNvCxnSpPr>
            <a:stCxn id="145" idx="2"/>
            <a:endCxn id="148" idx="0"/>
          </p:cNvCxnSpPr>
          <p:nvPr/>
        </p:nvCxnSpPr>
        <p:spPr>
          <a:xfrm flipH="1">
            <a:off x="6333480" y="3622680"/>
            <a:ext cx="1080" cy="27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2" name="Rectángulo redondeado 42"/>
          <p:cNvSpPr/>
          <p:nvPr/>
        </p:nvSpPr>
        <p:spPr>
          <a:xfrm>
            <a:off x="846000" y="5016600"/>
            <a:ext cx="7050240" cy="12207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te Reglamento no aplica a: Magistrados y empleados de Salas Administrativas de Consejos Seccionales de la Judicatura y Direcciones Ejecutiva y Seccionales de Administración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50440" y="160020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calificación de servicios será efectuada al servidor judicial que estuviere en el cargo por un tiempo superior de tres (3) me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se desempeñe en varios cargos en propiedad, siendo nombrado por el registro de elegibles, se evaluara por su desempeño en el último carg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stando en propiedad y se desempeñe en un cargo de carrera provisional o por traslado en varios cargos, se hará de forma proporcional al lapso laborado en cada uno de ell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XCEPCIONES – Artículo 6 Acuerdo No. PSAA14-1028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2EAD-C48E-4C25-97A4-51DF1CE61FF7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5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58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ERÍODO MÍNIMO DE EVALUACIÓN Y EXCE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50800" y="1600200"/>
            <a:ext cx="764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Sala Administrativa Superior o la Sala Seccional descontará los días hábiles que correspondan 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acancia Jud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Incapacidad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lamidad doméstic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scrutinios Electo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icencias (salvo para ocupar otros cargos en la Rama Judici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ierre extraordinario de los despach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misiones (para adelantar actividades en la EJRB) – permisos sindicales o actividad autorizada por la Sala Administrativa del Consejo Superior de la Judicat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B84-B064-45F9-87D3-8E9221E5DBBA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6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64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NÚMERO DE DÍAS CALIFI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01280" y="1571760"/>
            <a:ext cx="74725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or comisiones o permisos – participación en eventos de formación y capacitación – salud ocupacional autorizados por la Sala Administrativa Superior – se descuenta la totalidad del tiempo invertido siempre y cuando esté acredita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tiempo dedicado a cumplir Despachos Comisorios fuera de la sede del despacho, el cual se debe acreditar ante la Sala Administrativa </a:t>
            </a:r>
            <a:r>
              <a:rPr b="1" lang="es-CO" sz="2200" spc="-1" strike="noStrike" u="sng">
                <a:solidFill>
                  <a:srgbClr val="000000"/>
                </a:solidFill>
                <a:uFillTx/>
                <a:latin typeface="Calibri"/>
              </a:rPr>
              <a:t>competente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 las servidoras que se encuentren en estado de gravidez, se les descontará 10 dí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 los Presidentes de los Tribunales y Salas Disciplinarias de los Consejos Seccionales, se les descontará 15 días por período en razón a las labores de representación instituci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A0E6-CCD0-43E9-ACA4-918D231831D6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6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0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FECTOS DE 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7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4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FECTOS DE 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Diagrama 21" descr=""/>
          <p:cNvPicPr/>
          <p:nvPr/>
        </p:nvPicPr>
        <p:blipFill>
          <a:blip r:embed="rId3"/>
          <a:stretch/>
        </p:blipFill>
        <p:spPr>
          <a:xfrm>
            <a:off x="341280" y="1116000"/>
            <a:ext cx="7967520" cy="5334120"/>
          </a:xfrm>
          <a:prstGeom prst="rect">
            <a:avLst/>
          </a:prstGeom>
          <a:ln w="0">
            <a:noFill/>
          </a:ln>
        </p:spPr>
      </p:pic>
      <p:sp>
        <p:nvSpPr>
          <p:cNvPr id="176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6179-9946-490C-9E17-C05A4D85A4C4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37760" y="1600200"/>
            <a:ext cx="775332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eberá ser reportada por los servidores judiciales en los formularios e instrumentos diseñados por la UDAE y UACJ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superiores funcionales de los jueces y magistrados, son responsables de diligenciar los formatos del factor calidad y de remitirlos a Sala Administrativa competente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Funcionarios Judiciales son los responsables de suministrar la información en el sistema de estadísticas judiciales - SIERJU. (Acuerdo 2915/2005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2 o más funcionarios ocupen un mismo despacho se diligenciarán sendos formularios, cuya fecha de corte debe coincidir con la poses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9B49-031B-4F06-BC64-0C7061E846B7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2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INFORMACIÓN BASE Y FORMULARIOS DE CAL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50440" y="160020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Magistrados de las Salas Administrativas competentes serán los responsables del informe de las visitas para la evaluación  del factor organización del trabajo de Magistrados y de Jue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i durante el período a calificar, se desempeñaron dos o más funcionarios en el mismo despacho, se diligenciarán un formulario por cada uno de ell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superiores jerárquicos de los empleados son los responsables de diligenciar los formularios respectivos para soportar la Calificación Integral de Servici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C64D-7211-44E9-A81B-391E5A5AC902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8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INFORMACIÓN BASE Y FORMULARIOS DE CAL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50440" y="166212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as Salas Administrativas Seccionales, en los meses de enero y febrero siguiente al vencimiento del período, realizarán visitas por cada una de las jurisdicciones, especialidades o secciones categorías, para verificar la información estadística reportada por 2 despachos co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ayor Inventario final de procesos activ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ayor Egreso dentro del perío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enor número de egresos durante el perío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ayor número de procesos sin tramite dentro del perío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os más altos índices de rendimi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os más bajos índices de rendimi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Dos despachos elegidos al az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3FA0-C757-4886-A213-3DD69CA96C80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9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94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000"/>
                </a:solidFill>
                <a:latin typeface="Calibri"/>
                <a:ea typeface="MS PGothic"/>
              </a:rPr>
              <a:t>VERIFICACIÓN DE LA INFORMACIÓNY REPORTE A LA 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6400" y="1549080"/>
            <a:ext cx="7639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El acopio, procesamiento y análisis de la información respecto de jueces y empleados estará a cargo de las Salas Administrativas Seccion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Para los funcionarios la información deberá reportarse a más tardar el primer día hábil del mes de octubre del año siguiente al período venci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a UDAE es responsable de procesar y consolidar la información estadística a nivel naciona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a UACJ es la responsable de establecer los indicadores requeridos para efectos de calificación de servicios de los funcionari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A partir del primer período de evaluación que se consolide con este Acuerdo, la calificación en firme será publicada en la pagina web de la Rama para conocimiento de los usuari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9AB-51D7-4533-84AE-4732E88623D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9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0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ROCESAMIENTO, CONSOLIDACIÓN DE LA INFORMACIÓN Y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57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FERENTE NORMATIV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2A6B-416B-4993-A8E9-42AEF9D78928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8200" y="3068640"/>
            <a:ext cx="7772400" cy="15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onstitución Política </a:t>
            </a:r>
            <a:br>
              <a:rPr sz="3600"/>
            </a:b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rtículos No. 1, 2, 125, 228, 229, 256 y 257</a:t>
            </a:r>
            <a:br>
              <a:rPr sz="3200"/>
            </a:br>
            <a:br>
              <a:rPr sz="3200"/>
            </a:b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Ley 270 de 1996 </a:t>
            </a:r>
            <a:br>
              <a:rPr sz="3600"/>
            </a:b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rtículos No. 85 numerales 17 a 19 y 22, 157, 158, 169 a 174 y numeral 2º del Artículo 1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50440" y="146052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se establezca que la información reportada del factor Eficiencia o Rendimiento es inexacta, la Sala Administrativa competente, requerirá al funcionario para que dentro del termino de 5 días verifique, corrija o justifique la inexactitud encontr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despacho judicial que no rinda la información o la rinda  inexacta, se le asignará cero (0) puntos en la calificación del factor eficiencia o rendimiento que será determinado por la respectiva Sala Administrativa de los Consejos Superior o Seccional de la Judicatura, según su competencia.(Art. 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4A95-D02B-4F25-B8B8-3D4D3255651F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0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6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INEXISTENCIA O INEXACTITUD DE LOS RE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0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2760" y="407520"/>
            <a:ext cx="41749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ES DE EVALUACIÓ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8EA-66A4-4E8A-BC29-6C5E48DD4A5A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Diagrama 5" descr=""/>
          <p:cNvPicPr/>
          <p:nvPr/>
        </p:nvPicPr>
        <p:blipFill>
          <a:blip r:embed="rId3"/>
          <a:stretch/>
        </p:blipFill>
        <p:spPr>
          <a:xfrm>
            <a:off x="579600" y="1530360"/>
            <a:ext cx="7557840" cy="485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917640" y="5300640"/>
          <a:ext cx="6978600" cy="914400"/>
        </p:xfrm>
        <a:graphic>
          <a:graphicData uri="http://schemas.openxmlformats.org/drawingml/2006/table">
            <a:tbl>
              <a:tblPr/>
              <a:tblGrid>
                <a:gridCol w="69786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RESTARÁ UN (1) PUNTO A LA CALIFICACIÓN INTEGRAL POR PÉRDIDA DE COMPETENCIA POR VENCIMIENTO DEL TÉRMIN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rt. 22 Ac. y 121 CG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1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9200" y="369720"/>
            <a:ext cx="37008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ULTADOS DE LA CALIFICACIÓN DE SERVICI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A72-3D44-4492-9355-5FD591D6FB0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71560" y="1916280"/>
          <a:ext cx="3606840" cy="4154400"/>
        </p:xfrm>
        <a:graphic>
          <a:graphicData uri="http://schemas.openxmlformats.org/drawingml/2006/table">
            <a:tbl>
              <a:tblPr/>
              <a:tblGrid>
                <a:gridCol w="3606840"/>
              </a:tblGrid>
              <a:tr h="138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38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 </a:t>
                      </a:r>
                      <a:r>
                        <a:rPr b="1" lang="es-CO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sión de la carrera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592520" y="1916280"/>
          <a:ext cx="3355920" cy="4176720"/>
        </p:xfrm>
        <a:graphic>
          <a:graphicData uri="http://schemas.openxmlformats.org/drawingml/2006/table">
            <a:tbl>
              <a:tblPr/>
              <a:tblGrid>
                <a:gridCol w="3355920"/>
              </a:tblGrid>
              <a:tr h="139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85 HASTA 100 P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39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60 HASTA 84  PUNTO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9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0 HASTA 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50440" y="170028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nsiste en un programa de actividades y compromisos por parte de los servidores judiciales, en un tiempo determinado con el fin de mejorar el desempeño durante el siguiente período a evalu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 ningún caso el plan de mejoramiento podrá comprender aspectos que afecten la autonomía e independencia judicial. El mismo será elaborado por la Sala Administrativa competente, la cual realizará el acompañamiento y seguimiento pertin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AACD-C2EF-40DB-95B8-87335954304C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2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26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LAN DE MEJORAMIENTO Y GESTIÓN DE CALIDAD Y DEL 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50800" y="1460520"/>
            <a:ext cx="768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s Notificaciones, los impedimentos y recusaciones y los recursos se tramitarán de conformidad con los establecido en el Código de Procedimiento Administrativo y de lo Contencioso Administrativ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calificación integral de servicios INSATISFACTORIA se notificaran SIEMPRE de manera personal dentro de los diez (10) días siguientes a su consolidación. Las demás se podrán notificar por correo electrónico durante el mismo términ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la impugnación del factor calidad, la Sala Administrativa competente, pondrá en conocimiento del superior funcional  el respectivo escrito de impugnación, para que se pronuncie en un término no superior a 15 días hábi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4E95-EF79-4252-8CE5-43389F8BC395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3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32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NOTIFICACIONES, RECURSOS, IMPEDIMENTOS Y RECUS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84280" y="1499760"/>
            <a:ext cx="7416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a Sala Administrativa en cumplimiento de sus funciones constitucionales y legales expidió el Acuerdo PSAA10-7636 el 20 de diciembre de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iciada la difusión, se recibieron peticiones de diferentes Corporaciones para la realización de talleres, a fin de que se les brindara claridad sobre su contenido y apl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a Sala Administrativa  de conformidad con el Art. 2 de la Carta Política y el Art 174 de la Ley 270/96, con Acuerdo PSAA11-7909 de 2011, suspendió el citado acuerdo por cuanto generó inseguridad jurídica, señalando en el mismo acto el procedimiento a seguir para consolidar las propuestas y proceder a su análisis y decis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7E09-2C2E-4A4C-8C58-05A47A7A76F8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67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ítulo 1"/>
          <p:cNvSpPr/>
          <p:nvPr/>
        </p:nvSpPr>
        <p:spPr>
          <a:xfrm>
            <a:off x="677880" y="549360"/>
            <a:ext cx="410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24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4400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os comités y la comisión trabajaron a partir de las observaciones, sugerencia y participaciones realizadas al Acuerdo 7636, y como resultado se elaboró un nuevo proyecto que contenía las pautas de los nuevos sistemas oral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a el mes de septiembre de 2013, la Sala adoptó la socialización del proyecto de Acuerdo, abriendo nuevos espacios de participación a los funcionarios y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rvidores de la Unidad de Carrera Judicial, incluida la Directora de la Unidad, se desplazaron por varias ciudades del país con el propósito de exponer y socializar el proyecto de Acuerdo, al igual que el de generar la participación de los interesados. 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F00C-D593-4CA8-A48B-B9374176132D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75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84280" y="1600200"/>
            <a:ext cx="753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 realizaron presentaciones y talleres, en diferentes distritos del país, se recogieron sugerencias, inquietudes y comentarios, los cuales se introdujeron en la nueva versión del proyec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 noviembre de 2013, se presentó el proyecto de Acuerdo a la Sala Administrativa Superior, quien decidió ampliar el termino de participación durante los meses de marzo y abril de 20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as Salas Administrativas Seccionales invitaron a participar a jueces y magistrados de sus distritos, así mismo se abrió el espacio con el sindicato de la Rama Judicial con quienes se socializó el proyect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ABBC-071A-470A-B6BA-22FECE30316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83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1E66-92B7-4AB6-95F3-5F1DE20DE153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90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0360" y="1612440"/>
            <a:ext cx="729936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ambién, se publicó en la pagina web </a:t>
            </a:r>
            <a:r>
              <a:rPr b="0" lang="es-CO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ramajudicial.gov.co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, y se estableció que podían presentarse observaciones a través del correo electrónico de la Unidad de Carrera Judicial </a:t>
            </a:r>
            <a:r>
              <a:rPr b="0" lang="es-CO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carjud@cendoj.ramajudicial.gov.co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Nuevamente se extendió el plazo para recibir propuestas hasta el 3 de junio de 2014, sin que se hubiera recibido algu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a el mes de noviembre, la Sala Administrativa se reunió con directivos o representantes de asociaciones y agremiaciones sindicales y decidió abrir otro escenario adicional de participación, a través de una matriz de consulta del proyecto de calificación de servicios, enviada a 3.485 despachos judic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na vez tabulada la información, observaciones se acogieron las intervenciones pertinentes y se elaboró este Acuer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5400" spc="-1" strike="noStrike">
                <a:solidFill>
                  <a:srgbClr val="000000"/>
                </a:solidFill>
                <a:latin typeface="Calibri"/>
                <a:ea typeface="MS PGothic"/>
              </a:rPr>
              <a:t>ACUERD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5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1" lang="es-CO" sz="5400" spc="-1" strike="noStrike">
                <a:solidFill>
                  <a:srgbClr val="000000"/>
                </a:solidFill>
                <a:latin typeface="Calibri"/>
                <a:ea typeface="MS PGothic"/>
              </a:rPr>
              <a:t>No. PSAA14-1028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B770-23DE-43CD-A2DB-48F4D8759B4A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99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7720" y="1714680"/>
            <a:ext cx="779328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105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ítulo 1"/>
          <p:cNvSpPr/>
          <p:nvPr/>
        </p:nvSpPr>
        <p:spPr>
          <a:xfrm>
            <a:off x="725400" y="24912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VALUAC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Marcador de contenido 2"/>
          <p:cNvSpPr/>
          <p:nvPr/>
        </p:nvSpPr>
        <p:spPr>
          <a:xfrm>
            <a:off x="530280" y="1674720"/>
            <a:ext cx="761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1088c"/>
                </a:solidFill>
                <a:latin typeface="Calibri"/>
                <a:ea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21088c"/>
                </a:solidFill>
                <a:latin typeface="Calibri"/>
                <a:ea typeface="Arial"/>
              </a:rPr>
              <a:t>DE LA EVALUACIÓN DE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LOGRAR LA EXCELENC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MANTENE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OS NIVELES DE IDONEIDAD, CALIDAD Y EFICIENCIA QUE JUSTIFIQUEN LA PERMANENCIA, PROMOCIÓN, CAPACITACIÓN Y CONCESIÓN DE ESTIM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ART. 169 LEY 270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9D02-D159-4A43-85A6-5DDB60294A65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7720" y="1714680"/>
            <a:ext cx="779328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114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ítulo 1"/>
          <p:cNvSpPr/>
          <p:nvPr/>
        </p:nvSpPr>
        <p:spPr>
          <a:xfrm>
            <a:off x="725400" y="24912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VALUAC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Marcador de contenido 2" descr=""/>
          <p:cNvPicPr/>
          <p:nvPr/>
        </p:nvPicPr>
        <p:blipFill>
          <a:blip r:embed="rId4"/>
          <a:stretch/>
        </p:blipFill>
        <p:spPr>
          <a:xfrm>
            <a:off x="414360" y="159696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75AB-B56D-4FD3-B87C-403F73ADECA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21:22Z</dcterms:created>
  <dc:creator>CARMEN</dc:creator>
  <dc:description/>
  <dc:language>en-US</dc:language>
  <cp:lastModifiedBy>Rocio Zea Barrera</cp:lastModifiedBy>
  <cp:lastPrinted>2013-12-10T12:19:39Z</cp:lastPrinted>
  <dcterms:modified xsi:type="dcterms:W3CDTF">2015-07-27T21:15:52Z</dcterms:modified>
  <cp:revision>411</cp:revision>
  <dc:subject/>
  <dc:title>Diapositiva 1</dc:title>
</cp:coreProperties>
</file>